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C636-D337-4881-8619-FC3A14D26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2618-2020-4DBF-8D76-BE3402EC4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453A-C1C9-45B0-9F9B-7239E36C1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4C4A-41E2-4545-8585-D10747F7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F8DD-3C33-4693-ADD1-0AD5E592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6F63-9C6C-4EF3-ACA6-A251475D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D03B-2201-4E3A-919A-F7AC2F7D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C03-B6A3-43FC-A998-6822B315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8E05-866A-4364-B77E-35AA49D2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D924-8323-44B0-92A5-DD3BCD9C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22C9-B64E-4221-8679-8DA873E9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FCD-118A-4F6B-A097-697989F5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54A3-A9F8-41EA-BB29-0799B1EA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EA8E-183F-42D4-920B-5D95405C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89F4-1D48-458E-A847-5C3A9BEA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72B5-6679-49D6-BD3F-C5136CCF0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isha Mohanl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isha Mohan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nisha Mohanlal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752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nisha Mohanl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nisha Mohanlal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0" y="3200400"/>
            <a:ext cx="220968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Manisha. Yo vivo New York, Queens. Yo tengo catorce años. Yo  tengo un hermáno mayun, sue es Steven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327672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819520" y="3276720"/>
            <a:ext cx="373356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u son no va a invitar mi? Jajajaja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2743200" y="2438280"/>
            <a:ext cx="388620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Yo va a fiesta hoy!!! </a:t>
            </a:r>
            <a:r>
              <a:rPr b="0" lang="en-US" sz="7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666880" y="4038480"/>
            <a:ext cx="381024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¿qué estás haciendo. 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Hola lindó! Yo quérie comer helado y tú?  Te guesta:  Commentario  5 sceonds ago   December 5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Photo on 2011-11-29 at 13.54.jpg"/>
          <p:cNvPicPr/>
          <p:nvPr/>
        </p:nvPicPr>
        <p:blipFill>
          <a:blip r:embed="rId5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98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isha Mohanl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isha Mohan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nisha Mohanlal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152280" y="2666880"/>
            <a:ext cx="1676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nisha Mohanla 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nisha Mohanlal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6"/>
          <p:cNvSpPr/>
          <p:nvPr/>
        </p:nvSpPr>
        <p:spPr>
          <a:xfrm>
            <a:off x="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os días, como esta su día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7"/>
          <p:cNvSpPr/>
          <p:nvPr/>
        </p:nvSpPr>
        <p:spPr>
          <a:xfrm>
            <a:off x="0" y="3200400"/>
            <a:ext cx="220968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Manisha. Yo vivo New York, Queens. Yo tengo catorce años. Yo  tengo un hermáno mayun, sue es Steven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2743200" y="327672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2819520" y="3276720"/>
            <a:ext cx="373356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 a tú mi amór!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7"/>
          <p:cNvSpPr/>
          <p:nvPr/>
        </p:nvSpPr>
        <p:spPr>
          <a:xfrm>
            <a:off x="2743200" y="2438280"/>
            <a:ext cx="388620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Buenas tardes!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1 hour ago.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! Mi día es  muy bueno y tú?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¿qué estás haciendo. 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Hola lindó! Yo quérie comer helado y tú?  Te guesta:  Commentario  5 sceonds ago   December 5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9" descr="390338_462884177083783_505372657_n.jpg"/>
          <p:cNvPicPr/>
          <p:nvPr/>
        </p:nvPicPr>
        <p:blipFill>
          <a:blip r:embed="rId1"/>
          <a:stretch/>
        </p:blipFill>
        <p:spPr>
          <a:xfrm>
            <a:off x="228600" y="380880"/>
            <a:ext cx="1378080" cy="2067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3" descr="255454_485362224809992_722496303_n.jpg"/>
          <p:cNvPicPr/>
          <p:nvPr/>
        </p:nvPicPr>
        <p:blipFill>
          <a:blip r:embed="rId2"/>
          <a:stretch/>
        </p:blipFill>
        <p:spPr>
          <a:xfrm>
            <a:off x="0" y="4419720"/>
            <a:ext cx="53352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14:35:25Z</dcterms:created>
  <dc:creator>FriscoISD</dc:creator>
  <dc:description/>
  <dc:language>en-US</dc:language>
  <cp:lastModifiedBy>NYCDOE</cp:lastModifiedBy>
  <dcterms:modified xsi:type="dcterms:W3CDTF">2013-01-02T15:01:57Z</dcterms:modified>
  <cp:revision>108</cp:revision>
  <dc:subject/>
  <dc:title>Profile</dc:title>
</cp:coreProperties>
</file>